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7C6-699F-4A19-A6A6-C1674794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E12-D3C5-477F-9A3D-E6F1A3D7B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6AAF-3609-4571-8233-12AD76DB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F346-3887-4B67-9465-16A1AEC8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E62A-3F9F-427D-8382-E62C722E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37BD-436E-4352-A746-52C94002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08D5-EDBA-4F1E-8EB3-20F81020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F38F-F4B2-4ECC-A2E7-83BDEE8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06F-7747-471E-9C88-D25CA64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E0F-818A-462E-8A70-B5FCE786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0B7-2EF9-4D68-AC78-AE0C758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B2D-4DDF-4246-B645-C3FD717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30F-3DE9-4BC8-82B1-AA669AE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C278-301D-4C69-AD6C-D524AD3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D65-9F5F-464B-9CD6-98F8A87F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FC4-87F8-423F-8E58-ED7AB25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B228-4BA9-4D16-9075-AA847F1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85CB-BAD5-407B-8C8D-CCA138FB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EE68-4586-407E-9144-8E40A269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73E7-4760-4D89-ADF3-674CCEEB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A120-382C-4540-BD7E-3C980429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22B1-B271-4F24-9A43-3B62010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6733-BAC1-47A0-B89C-7202F5F2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BE9E-6549-4466-9D4F-376F30C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09D8-2DC0-4B50-A287-E75E3FB1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F714-78CC-4F52-8F02-E9EC1E5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8F96-4602-4A36-8012-5EF716A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01C4-05DC-4994-8B9D-79455CE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26AB-BFFF-4601-B8B2-D88FA26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0F8F-C9C7-4B5C-AB31-75E8C38C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D5E6-C75A-41FE-BAA2-6564F740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AF2B-1473-4C1B-8FC5-7FA97215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DAE7C-D4DB-4CCA-B663-34C0180601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FD993-0564-4E28-9EE8-FB9F2DAEE2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A12E0-3F1E-4243-8B9D-A493B77AE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0B16-32A3-4466-8642-A040900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46E74-E6A3-428F-8ABE-20A51737D9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CD16C-66E7-454C-AE93-EDE5939B48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2C94C-CE04-43DB-B7B1-85EA68430B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00E63-0ADD-44B8-973E-784F032425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294C7-0CA3-4693-BA2E-CC96C060B4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AF9CE-4CBF-412B-ABCC-B500DD3990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AB73A-B025-44A8-88EF-D3DC9B576F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A7676-36D7-4CEA-9A78-17CC1BB7A8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E6A5E-A90B-4B40-919C-C829E93AFB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5871-76FE-49B8-A05D-C03461C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5723-AC05-4558-9387-F5D5FD4F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82BE-A350-47A5-AFC8-27DF3BF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8D86-3C08-447C-9107-9EAD8515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6776-BF9F-4308-87D8-3435774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D52A-EB58-4BB3-BB92-5A995B4B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FE6-84F9-4AF3-94B5-9D7CE8A4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7C6-79B3-4B98-A75D-612AF8A2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0E6-E0DD-440D-9567-ECD63132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A41-7B74-4414-BAE2-2BD28E788216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A7A-05EB-48A5-8F86-BC4C8ACB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November 4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B87-27DA-46D8-9167-CFF2BB31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49280" y="1012680"/>
            <a:ext cx="8229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Merging of TX SET &amp; P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new name TEXAS SET/LP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combined WG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leadership structur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Discussed Reducing Annual Validation Changes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review potential flip/flops volumes from historical AV changes and minimize such changes, if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I/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LO/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E36-0E9C-4D38-B382-C91C3192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2280" y="1066680"/>
            <a:ext cx="8839440" cy="446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Thursday, Nov 13, 2025 @ 9:30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Combined TX SET &amp; 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SET/LP W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BUS LO/MED Load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of Battery Storage Load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LPGRR, Profile Decision Tree Conversion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cp:lastPrinted>2025-09-04T20:28:26Z</cp:lastPrinted>
  <dcterms:modified xsi:type="dcterms:W3CDTF">2025-11-04T01:30:13Z</dcterms:modified>
  <cp:revision>1563</cp:revision>
  <dc:subject/>
  <dc:title>Instructions</dc:title>
</cp:coreProperties>
</file>